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E0A-02FA-4C1F-AA16-32273D79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CF1-4E0C-4957-A126-8679E688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38B-9A88-4F5F-AFC3-E6AE1007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058-7120-49E8-A4D9-E4308E6A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68F-70D9-451B-8D58-D76E69E4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AD5-5266-4184-A840-B12B0A89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F85-9DAA-49BF-8329-F78AC13A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3B1-EF9C-474B-9722-E558C31B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BCE-8E9F-49D7-B4AA-FE953C8C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3EB-C259-41B5-94A1-437B54F2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B0D-5092-4993-9E8A-19608FC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7B8-FEC3-487B-84A4-97B2E64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FBD8-94F0-4323-B1A2-F4EBA2F09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liveinternet.ru/users/tanya_4e4e/post219652300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4663906_Ychimsya_Bit_Vejlivim1 (200x284, 130Kb)"/>
          <p:cNvPicPr/>
          <p:nvPr/>
        </p:nvPicPr>
        <p:blipFill>
          <a:blip r:embed="rId1"/>
          <a:stretch/>
        </p:blipFill>
        <p:spPr>
          <a:xfrm>
            <a:off x="0" y="0"/>
            <a:ext cx="6858000" cy="9128160"/>
          </a:xfrm>
          <a:prstGeom prst="rect">
            <a:avLst/>
          </a:prstGeom>
          <a:ln w="0">
            <a:noFill/>
          </a:ln>
        </p:spPr>
      </p:pic>
      <p:pic>
        <p:nvPicPr>
          <p:cNvPr id="44" name="Записанный звук" descr=""/>
          <p:cNvPicPr/>
          <p:nvPr/>
        </p:nvPicPr>
        <p:blipFill>
          <a:blip r:embed="rId2"/>
          <a:stretch/>
        </p:blipFill>
        <p:spPr>
          <a:xfrm>
            <a:off x="6093000" y="826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g1.liveinternet.ru/images/attach/c/3/84/228/84228713_large_Uchimsya_Buyt_Vezhlivuym10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5805360" y="684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img0.liveinternet.ru/images/attach/c/3/84/228/84228714_large_Uchimsya_Buyt_Vezhlivuym11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1268280" y="7308720"/>
            <a:ext cx="489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liveinternet.ru/users/tanya_4e4e/post219652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вук: Елены Берюх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mg1.liveinternet.ru/images/attach/c/3/84/228/84228703_large_Uchimsya_Buyt_Vezhlivuym2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6" name="Записанный звук" descr=""/>
          <p:cNvPicPr/>
          <p:nvPr/>
        </p:nvPicPr>
        <p:blipFill>
          <a:blip r:embed="rId2"/>
          <a:stretch/>
        </p:blipFill>
        <p:spPr>
          <a:xfrm>
            <a:off x="6165720" y="539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img0.liveinternet.ru/images/attach/c/3/84/228/84228704_large_Uchimsya_Buyt_Vezhlivuym3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1.liveinternet.ru/images/attach/c/3/84/228/84228705_large_Uchimsya_Buyt_Vezhlivuym4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1.liveinternet.ru/images/attach/c/3/84/228/84228707_large_Uchimsya_Buyt_Vezhlivuym5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  <p:pic>
        <p:nvPicPr>
          <p:cNvPr id="50" name="Записанный звук" descr=""/>
          <p:cNvPicPr/>
          <p:nvPr/>
        </p:nvPicPr>
        <p:blipFill>
          <a:blip r:embed="rId2"/>
          <a:stretch/>
        </p:blipFill>
        <p:spPr>
          <a:xfrm>
            <a:off x="5661000" y="1403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mg0.liveinternet.ru/images/attach/c/3/84/228/84228708_large_Uchimsya_Buyt_Vezhlivuym6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25344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2"/>
          <a:stretch/>
        </p:blipFill>
        <p:spPr>
          <a:xfrm>
            <a:off x="5950080" y="468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g1.liveinternet.ru/images/attach/c/3/84/228/84228709_large_Uchimsya_Buyt_Vezhlivuym7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0.liveinternet.ru/images/attach/c/3/84/228/84228710_large_Uchimsya_Buyt_Vezhlivuym8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g1.liveinternet.ru/images/attach/c/3/84/228/84228711_large_Uchimsya_Buyt_Vezhlivuym9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  <p:pic>
        <p:nvPicPr>
          <p:cNvPr id="56" name="Записанный звук" descr=""/>
          <p:cNvPicPr/>
          <p:nvPr/>
        </p:nvPicPr>
        <p:blipFill>
          <a:blip r:embed="rId2"/>
          <a:stretch/>
        </p:blipFill>
        <p:spPr>
          <a:xfrm>
            <a:off x="6093000" y="755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3:40:11Z</dcterms:created>
  <dc:creator>Helen</dc:creator>
  <dc:description/>
  <dc:language>en-US</dc:language>
  <cp:lastModifiedBy>Your User Name</cp:lastModifiedBy>
  <dcterms:modified xsi:type="dcterms:W3CDTF">2012-10-18T13:39:59Z</dcterms:modified>
  <cp:revision>3</cp:revision>
  <dc:subject/>
  <dc:title>Слайд 1</dc:title>
</cp:coreProperties>
</file>